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0AB-D34A-43D4-ADBA-CF070973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21D-413C-415B-BE2D-6C10EDE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874-CDF3-4737-969E-C83E2FE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C34-B659-4680-8034-CD5C861B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3AB-796F-45DF-B96D-EC1FFBD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73F-142A-4421-A47C-28CC01F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619-72B5-425E-B05E-E69B99C3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F52-9BF3-4FCA-A9E9-988EF7E2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255-2CEB-4638-9ECB-FCE57C98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06D-8088-47C9-BFF8-EDF3F92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774-5DED-4F2B-8197-E825EB70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0F9-6B3A-40D5-BAEB-1A72395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64DD-B854-4C59-BA93-B7CA984D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ge_name" TargetMode="External"/><Relationship Id="rId2" Type="http://schemas.openxmlformats.org/officeDocument/2006/relationships/hyperlink" Target="http://en.wikipedia.org/wiki/Songwriter" TargetMode="External"/><Relationship Id="rId3" Type="http://schemas.openxmlformats.org/officeDocument/2006/relationships/hyperlink" Target="http://en.wikipedia.org/wiki/Record_producer" TargetMode="External"/><Relationship Id="rId4" Type="http://schemas.openxmlformats.org/officeDocument/2006/relationships/hyperlink" Target="http://en.wikipedia.org/wiki/Singer" TargetMode="External"/><Relationship Id="rId5" Type="http://schemas.openxmlformats.org/officeDocument/2006/relationships/hyperlink" Target="http://en.wikipedia.org/wiki/Fashion_designer" TargetMode="External"/><Relationship Id="rId6" Type="http://schemas.openxmlformats.org/officeDocument/2006/relationships/hyperlink" Target="http://en.wikipedia.org/wiki/Artist" TargetMode="External"/><Relationship Id="rId7" Type="http://schemas.openxmlformats.org/officeDocument/2006/relationships/hyperlink" Target="http://en.wikipedia.org/wiki/Tamil_Sri_Lankans" TargetMode="External"/><Relationship Id="rId8" Type="http://schemas.openxmlformats.org/officeDocument/2006/relationships/hyperlink" Target="http://en.wikipedia.org/wiki/File-sharing" TargetMode="External"/><Relationship Id="rId9" Type="http://schemas.openxmlformats.org/officeDocument/2006/relationships/hyperlink" Target="http://en.wikipedia.org/wiki/Galang" TargetMode="External"/><Relationship Id="rId10" Type="http://schemas.openxmlformats.org/officeDocument/2006/relationships/hyperlink" Target="http://en.wikipedia.org/wiki/Sunshowers" TargetMode="External"/><Relationship Id="rId11" Type="http://schemas.openxmlformats.org/officeDocument/2006/relationships/hyperlink" Target="http://en.wikipedia.org/wiki/Internet" TargetMode="External"/><Relationship Id="rId12" Type="http://schemas.openxmlformats.org/officeDocument/2006/relationships/hyperlink" Target="http://en.wikipedia.org/wiki/Mercury_Prize" TargetMode="External"/><Relationship Id="rId13" Type="http://schemas.openxmlformats.org/officeDocument/2006/relationships/hyperlink" Target="http://en.wikipedia.org/wiki/Arular" TargetMode="External"/><Relationship Id="rId14" Type="http://schemas.openxmlformats.org/officeDocument/2006/relationships/hyperlink" Target="http://en.wikipedia.org/wiki/Kala_(album)" TargetMode="External"/><Relationship Id="rId15" Type="http://schemas.openxmlformats.org/officeDocument/2006/relationships/hyperlink" Target="http://en.wikipedia.org/wiki/Grammy_Awards" TargetMode="External"/><Relationship Id="rId16" Type="http://schemas.openxmlformats.org/officeDocument/2006/relationships/hyperlink" Target="http://en.wikipedia.org/wiki/Academy_Award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ncehall" TargetMode="External"/><Relationship Id="rId2" Type="http://schemas.openxmlformats.org/officeDocument/2006/relationships/hyperlink" Target="http://en.wikipedia.org/wiki/Electro_(music)" TargetMode="External"/><Relationship Id="rId3" Type="http://schemas.openxmlformats.org/officeDocument/2006/relationships/hyperlink" Target="http://en.wikipedia.org/wiki/World_musi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ular" TargetMode="External"/><Relationship Id="rId2" Type="http://schemas.openxmlformats.org/officeDocument/2006/relationships/hyperlink" Target="http://en.wikipedia.org/wiki/Personal_identity_(philosophy)" TargetMode="External"/><Relationship Id="rId3" Type="http://schemas.openxmlformats.org/officeDocument/2006/relationships/hyperlink" Target="http://en.wikipedia.org/wiki/Indie_(culture)" TargetMode="External"/><Relationship Id="rId4" Type="http://schemas.openxmlformats.org/officeDocument/2006/relationships/hyperlink" Target="http://en.wikipedia.org/wiki/Popular_culture" TargetMode="External"/><Relationship Id="rId5" Type="http://schemas.openxmlformats.org/officeDocument/2006/relationships/hyperlink" Target="http://en.wikipedia.org/wiki/Revolution" TargetMode="External"/><Relationship Id="rId6" Type="http://schemas.openxmlformats.org/officeDocument/2006/relationships/hyperlink" Target="http://en.wikipedia.org/wiki/War" TargetMode="External"/><Relationship Id="rId7" Type="http://schemas.openxmlformats.org/officeDocument/2006/relationships/hyperlink" Target="http://en.wikipedia.org/wiki/Working_class" TargetMode="External"/><Relationship Id="rId8" Type="http://schemas.openxmlformats.org/officeDocument/2006/relationships/hyperlink" Target="http://en.wikipedia.org/wiki/PLO" TargetMode="External"/><Relationship Id="rId9" Type="http://schemas.openxmlformats.org/officeDocument/2006/relationships/hyperlink" Target="http://en.wikipedia.org/wiki/Slang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ala_(album)" TargetMode="External"/><Relationship Id="rId2" Type="http://schemas.openxmlformats.org/officeDocument/2006/relationships/hyperlink" Target="http://en.wikipedia.org/wiki/Live_instrumentation" TargetMode="External"/><Relationship Id="rId3" Type="http://schemas.openxmlformats.org/officeDocument/2006/relationships/hyperlink" Target="http://en.wikipedia.org/wiki/Dance_music" TargetMode="External"/><Relationship Id="rId4" Type="http://schemas.openxmlformats.org/officeDocument/2006/relationships/hyperlink" Target="http://en.wikipedia.org/wiki/Folk_music" TargetMode="External"/><Relationship Id="rId5" Type="http://schemas.openxmlformats.org/officeDocument/2006/relationships/hyperlink" Target="http://en.wikipedia.org/wiki/Soca_music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00" y="3860280"/>
            <a:ext cx="48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ritish Asian identity through music</a:t>
            </a: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se study -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A is one of he most culturally diverse, and critically acclaimed UK artists to emerge in the last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w Task: Look at the images of her on the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her ‘Asianess’ obvious through her mise-en-sce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genre of music would you place her in from the ima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941720"/>
            <a:ext cx="496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s go to her web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iau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264800">
            <a:off x="5866920" y="3716280"/>
            <a:ext cx="204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: 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angi "Maya" Arulpragas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rn 18 July 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known by h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g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I.A.(missing in act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ngwr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cord produ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ashion desig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t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ri Lankan Tam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ig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complished visual artist by 2002, M.I.A. came to prominence in early 2004 throug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ile-sh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er singles 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a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and 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unshow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o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released h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ercury Pr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minated debut albu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r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2005. Her second album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K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s released in 2007 and gained her mainstream chart success. She has been nominated for tw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Grammy A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cademy A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compositions have been noted to encompass various genres, often with political lyricism and artwork. M.I.A. has described her music style as being "oth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A- cultural hybridity and musical 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283760"/>
            <a:ext cx="835164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A’s music is said to be a mix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e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c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ip hop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praised for her musical ‘fusion’ which has become popular with critics and some sections of the alternative-indie aud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 her musical experimentation and refusal to conform to any cultural stereotypes makes her an artist who doesn’t have a huge mainstream fol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lso not hugely popular amongst the Asian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: Watch the video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Galang’ 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Sunshowers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her website and make notes on the sheet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singingfool.com/Title.aspx?publishedid=14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15280" y="5373720"/>
            <a:ext cx="1728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Arula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A’s debut album ‘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ul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released worldwide in March 2005 to universal critical ac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ng and titling the alb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cknowledgment of her and her father's past, much of its focus lay in experi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ula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bservational, reflecting on her experiences of cultur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dentity,  poli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die 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pular cul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v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orking 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, exemplified by song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mazon“ and "Fire Fire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songs on the album are politically motivated showing her support for revolutionary groups such as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Tamil independenc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rically her songs often combine multi-lingu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pular culture imagery and social com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65964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Kala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6 M.I.A. wrote and recorded her second studio album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after her m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d through the lyric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20 Dollar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nnotate the sheet. What is the song about? Are the lyrics meaningful or non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la’ uses more diver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ve instru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layering traditional Indi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yles wit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echno/rave and urumee melam (traditional Tamil drums) in song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oyz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XR2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bum also saw her re-embrace the Bollywood film music from her childhood, as in the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‘Jimm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isten to the song and watch the video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Jimmy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make notes on the worksh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372360" y="189000"/>
            <a:ext cx="14526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80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A- cultural hybrid,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propriator, innova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 to conclude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explicit is her Asianess? How does he view her own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IA a cultural hybrid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she appropriate another culture in the same manner as Jay S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British is she? How influenced by America is s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he an example of deracialisation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this brief interview with her on US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ilymotion.com/video/x4gafv_mia-interview-cbc-the-hour_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w have British Asian artists attempted to forge their own identity through popular music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ider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lex issues surrounding perceptions of Asianess within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sian market, the BBC and niche gen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uccess of Jay Sean and the notion of cultural appropriation/deracia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A and cultural hybridity/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55:32Z</dcterms:created>
  <dc:creator>#</dc:creator>
  <dc:description/>
  <dc:language>en-US</dc:language>
  <cp:lastModifiedBy>nahomi</cp:lastModifiedBy>
  <dcterms:modified xsi:type="dcterms:W3CDTF">2009-11-12T15:27:23Z</dcterms:modified>
  <cp:revision>8</cp:revision>
  <dc:subject/>
  <dc:title>Slide 1</dc:title>
</cp:coreProperties>
</file>